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550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5504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2590920"/>
            <a:ext cx="518148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Motivational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hen you don’t care any mo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5240" y="0"/>
            <a:ext cx="10929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0840" y="0"/>
            <a:ext cx="82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7400" y="2590920"/>
            <a:ext cx="5181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Motivational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hen you don’t care any mo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go be productiv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114800"/>
            <a:ext cx="3962520" cy="0"/>
          </a:xfrm>
          <a:prstGeom prst="line">
            <a:avLst/>
          </a:prstGeom>
          <a:ln w="76320">
            <a:solidFill>
              <a:srgbClr val="c2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584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560" y="-57240"/>
            <a:ext cx="960300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560" y="-57240"/>
            <a:ext cx="9603000" cy="668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50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134720" cy="693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98208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134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2106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1T02:43:20Z</dcterms:created>
  <dc:creator>Rick Berg</dc:creator>
  <dc:description/>
  <dc:language>en-US</dc:language>
  <cp:lastModifiedBy>.</cp:lastModifiedBy>
  <dcterms:modified xsi:type="dcterms:W3CDTF">2003-10-21T03:41:15Z</dcterms:modified>
  <cp:revision>5</cp:revision>
  <dc:subject/>
  <dc:title>No Slide Title</dc:title>
</cp:coreProperties>
</file>